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D08B-02D7-46EA-980F-DABB03854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297D-FC36-429E-AC71-A6DB845F3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7B72-A5E9-4A89-A036-E38880FC8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BDB9-9F11-4AF9-8735-4A02129FF0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7342-18B8-4957-859E-21662058AC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9177-5DE8-4C02-861F-3FBAB0F5F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D4F6-7ECD-4A76-81D8-44D06D045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B5E1-F238-4311-9BCD-D2C608036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0A67-6098-4246-8961-335D6472E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E884-2DB1-4243-9137-92E7C301D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DAE5-7EE6-4AA3-AC05-ADD9967FC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0467-2A37-4086-A569-6877BFA5A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DF87-F434-4A53-BD39-4DEEAE0415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9E27-9AEB-4AF2-8E3B-1551852DDA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Suhana Kado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ike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7354-05D1-499A-AB20-252A88FB16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44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t means the student needs to refine their understanding of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9A32-03D6-40AA-800C-85050F2494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26360" cy="224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71228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0E75-4399-43D3-BB22-6FB0B37777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" y="1846440"/>
            <a:ext cx="8229600" cy="47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s the teacher may ask or includ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4FB7-D003-420A-A40C-F5FF3586B6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43186" t="14563" r="3067" b="62995"/>
          <a:stretch/>
        </p:blipFill>
        <p:spPr>
          <a:xfrm>
            <a:off x="682560" y="3581280"/>
            <a:ext cx="8128080" cy="209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4864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: ‘take the test’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Student Book Module 2: Comparing Fractions  Pages 3-4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869D-C537-40EB-96C3-44C322FBB6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276720" cy="411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3996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nswer Key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Facilitator’s Guide</a:t>
            </a:r>
            <a:br>
              <a:rPr sz="20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Module 2: Comparing Fractions </a:t>
            </a:r>
            <a:br>
              <a:rPr sz="20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page 5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9C5A-FB11-4B3D-B3CA-1A538C72C5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060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agnosing the Misconception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Facilitator’s Guide Module 2: Comparing Fractions page 4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E84A-9AB6-4A80-BC58-1C09445DEE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#2: Examining Student Respon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53C3-D4F2-41E8-BD80-BD5DB87583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1611-BD7E-43F6-90E7-0FADF977FE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put the math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3369-D38A-47FE-A44F-6B98B6DBD3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7094880" y="2286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cc00"/>
                </a:solidFill>
                <a:latin typeface="Arial"/>
              </a:rPr>
              <a:t>Mind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ider the following as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 ‘do the math.’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math that you se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anticipated student respon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r students have solved this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6A34-FA4B-4B79-9E66-55DABBB75B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7094880" y="2286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cc00"/>
                </a:solidFill>
                <a:latin typeface="Arial"/>
              </a:rPr>
              <a:t>Mind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e your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FA67-A9A0-41AC-89C9-EF783C1006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Jigsaw – Expert Grou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r samples of student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three people who have the same sample # as you do – e.g., Sample #1 find three other people with Sampl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n expert group, complete the chart ‘Supporting Student Learnin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FE5D-B678-485E-84EE-C757BE9993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4017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7D5-1729-4877-A253-EFAC10C2E9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7126200" cy="26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035B-F5F5-408F-96B0-ECB2F53023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44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t means the student understand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5E87-A66E-4317-8FDB-815D641721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6426360" cy="224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7937640" cy="99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Wines, Deborah</cp:lastModifiedBy>
  <dcterms:modified xsi:type="dcterms:W3CDTF">2012-04-21T00:32:12Z</dcterms:modified>
  <cp:revision>19</cp:revision>
  <dc:subject/>
  <dc:title>&lt;Title&gt;</dc:title>
</cp:coreProperties>
</file>